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ACEF-F577-4C14-B152-991B0D4E1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FFDD-CA24-4097-BC4D-019709EFC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EA9A-43A6-4F10-B387-A40FFA4C2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F358-BD95-4CB5-ACE6-0B9C99A9E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8BBAD-F908-4AA3-869A-CD4D3A977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0FF3B-244E-4711-B142-B404B7B60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C1A60-FF44-4D66-B55C-F7665CCC9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4E42B-BC26-4D35-B503-BDEC334D8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D29B3-888F-4E9E-95C0-4967671FC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E8628-0297-4DF9-AC32-0E5284AAA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1242A-4838-46E9-838D-F46FC265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E601-9830-43E0-9690-196846E42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53745-BCB9-46D7-A3AC-3E1A56AB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203F6-32F9-4F30-9D34-E49131BA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12B2D-1555-427F-9F88-DBB69A90B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48CD8-AD8A-4F05-8E46-A6A54C3BB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BD232-8422-400C-8494-69735B7AC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097B-4F52-437C-B915-F09290E5D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5BF0-2804-4BEA-9087-F60ED4E29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4555-8F30-4F00-BA81-E2AC1073B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3D52-6282-494D-BB33-8FF7ECBDC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0A38-B48F-4521-8575-35237CE4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8E0F-A39E-46D0-B564-D114F11A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1F9E-0127-46EB-935F-CD5740F2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F7DB8-66CF-4BA3-9D78-632913B7405F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537D9-0BA2-4F20-868F-8A977D60D46D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5 Themes of Geograp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29528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Verdana"/>
              </a:rPr>
              <a:t>Period 4 Group 2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eg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Verdana"/>
              </a:rPr>
              <a:t>Cultura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Verdana"/>
              </a:rPr>
              <a:t>Creolizatio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Verdana"/>
              </a:rPr>
              <a:t>Colonialism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eg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Verdana"/>
              </a:rPr>
              <a:t>Economic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575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92929"/>
                </a:solidFill>
                <a:latin typeface="Verdana"/>
              </a:rPr>
              <a:t>The average annual growth % GDP per capita ranges from the Bahamas with -0.1 to Guyana with 5.2</a:t>
            </a:r>
            <a:endParaRPr b="0" lang="en-US" sz="23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575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92929"/>
                </a:solidFill>
                <a:latin typeface="Verdana"/>
              </a:rPr>
              <a:t>The total GNI goes from low as St. Vincent and the Grenadines with 301 to high as the Dominican Republic with 16,130.</a:t>
            </a:r>
            <a:endParaRPr b="0" lang="en-US" sz="23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575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92929"/>
                </a:solidFill>
                <a:latin typeface="Verdana"/>
              </a:rPr>
              <a:t>Referred to as the “American Backyard”</a:t>
            </a:r>
            <a:endParaRPr b="0" lang="en-US" sz="23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575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92929"/>
                </a:solidFill>
                <a:latin typeface="Verdana"/>
              </a:rPr>
              <a:t>Developing region </a:t>
            </a:r>
            <a:endParaRPr b="0" lang="en-US" sz="23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575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92929"/>
                </a:solidFill>
                <a:latin typeface="Verdana"/>
              </a:rPr>
              <a:t>60% of the Caribbean is urban</a:t>
            </a:r>
            <a:endParaRPr b="0" lang="en-US" sz="23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Human/Environment Interac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Verdana"/>
              </a:rPr>
              <a:t>Chang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Verdana"/>
              </a:rPr>
              <a:t>Use deforestation for family ranching and building building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Verdana"/>
              </a:rPr>
              <a:t>Clear hillsides for farming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Verdana"/>
              </a:rPr>
              <a:t>Coastal mangrove swamps for beach spac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Verdana"/>
              </a:rPr>
              <a:t>Irrigation is used to bring water to dried land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Human/Environment Interac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Verdana"/>
              </a:rPr>
              <a:t>Adap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lnSpc>
                <a:spcPct val="10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Verdana"/>
              </a:rPr>
              <a:t>Countries in the Caribbean built cruise ships, cruise lines, and tourist sectors to attract tourists to the Caribbean and help countries in the Caribbean make a profit. (Tourism represents half the country’s GDP.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lnSpc>
                <a:spcPct val="10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Verdana"/>
              </a:rPr>
              <a:t>Residents in the Caribbean build their houses on the silts as protection against flooding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lnSpc>
                <a:spcPct val="10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Verdana"/>
              </a:rPr>
              <a:t>There is little sources for energy so some people have to use firewood and charcoal as their energy needs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lnSpc>
                <a:spcPct val="10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Verdana"/>
              </a:rPr>
              <a:t>The production of sugarcane has become an easy way for farmers to make a large profit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lnSpc>
                <a:spcPct val="10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Verdana"/>
              </a:rPr>
              <a:t>Since the climate is so hot, people use air conditioners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lnSpc>
                <a:spcPct val="10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Verdana"/>
              </a:rPr>
              <a:t>Growth of coffe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Human/Environment Interac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Jamaica, Caribbean: Sugar cane, still one of the island's biggest exports—and the foundation of Jamaican rum"/>
          <p:cNvPicPr/>
          <p:nvPr/>
        </p:nvPicPr>
        <p:blipFill>
          <a:blip r:embed="rId1"/>
          <a:stretch/>
        </p:blipFill>
        <p:spPr>
          <a:xfrm>
            <a:off x="533520" y="1752480"/>
            <a:ext cx="3619440" cy="28576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33520" y="4724280"/>
            <a:ext cx="380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Verdana"/>
              </a:rPr>
              <a:t>Sugar cane field in Jamaica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Lo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Verdana"/>
              </a:rPr>
              <a:t>Relative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Verdana"/>
              </a:rPr>
              <a:t>Southeast of Gulf of Mexico, east of Central America, and north of South Americ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Verdana"/>
              </a:rPr>
              <a:t>Exac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Verdana"/>
              </a:rPr>
              <a:t>18.15 N, 63.10 W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l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Verdana"/>
              </a:rPr>
              <a:t>Physica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524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92929"/>
                </a:solidFill>
                <a:latin typeface="Verdana"/>
              </a:rPr>
              <a:t>Lies between Tropic of Cancer and the Equator</a:t>
            </a:r>
            <a:endParaRPr b="0" lang="en-US" sz="21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524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92929"/>
                </a:solidFill>
                <a:latin typeface="Verdana"/>
              </a:rPr>
              <a:t>The region is divided into the Rimland, greater Antilles, and lesser Antilles.</a:t>
            </a:r>
            <a:endParaRPr b="0" lang="en-US" sz="21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524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92929"/>
                </a:solidFill>
                <a:latin typeface="Verdana"/>
              </a:rPr>
              <a:t>Warm temperatures (70’s year-round)</a:t>
            </a:r>
            <a:endParaRPr b="0" lang="en-US" sz="21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524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92929"/>
                </a:solidFill>
                <a:latin typeface="Verdana"/>
              </a:rPr>
              <a:t>Hurricanes (storms with heavy rains and winds)</a:t>
            </a:r>
            <a:endParaRPr b="0" lang="en-US" sz="21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524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92929"/>
                </a:solidFill>
                <a:latin typeface="Verdana"/>
              </a:rPr>
              <a:t>Abundant rainfall (more than 80 inches which determines season)</a:t>
            </a:r>
            <a:endParaRPr b="0" lang="en-US" sz="21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524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92929"/>
                </a:solidFill>
                <a:latin typeface="Verdana"/>
              </a:rPr>
              <a:t>Diverse flora and fauna</a:t>
            </a:r>
            <a:endParaRPr b="0" lang="en-US" sz="21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524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92929"/>
                </a:solidFill>
                <a:latin typeface="Verdana"/>
              </a:rPr>
              <a:t>Vegetation (forests, savannas, mangroves, and arid zones)</a:t>
            </a:r>
            <a:endParaRPr b="0" lang="en-US" sz="21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524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92929"/>
                </a:solidFill>
                <a:latin typeface="Verdana"/>
              </a:rPr>
              <a:t>Isolated proximity – Caribbean’s unusual position in world (limits economic opportunity)</a:t>
            </a:r>
            <a:endParaRPr b="0" lang="en-US" sz="21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l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Verdana"/>
              </a:rPr>
              <a:t>Huma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Verdana"/>
              </a:rPr>
              <a:t>Maroon communities of runaway slave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Verdana"/>
              </a:rPr>
              <a:t>Compromised of descendants of Africa, Asia, and Europ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Verdana"/>
              </a:rPr>
              <a:t>Plantation America-cultural region where European elite rule and depend on African labor forc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Verdana"/>
              </a:rPr>
              <a:t>Large Asian population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Verdana"/>
              </a:rPr>
              <a:t>Africans were forced from their native lands and sent to the America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Verdana"/>
              </a:rPr>
              <a:t>African religions like voodoo are widely practiced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Verdana"/>
              </a:rPr>
              <a:t>Complex culture caused by creolization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Verdana"/>
              </a:rPr>
              <a:t>Speak French, Dutch, Spanish, and English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Verdana"/>
              </a:rPr>
              <a:t>Railroad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Verdana"/>
              </a:rPr>
              <a:t>Ports for boats to come and go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Verdana"/>
              </a:rPr>
              <a:t>Arable lands are owned by elite with small plots for subsistence argricultur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veme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07520" indent="-40752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Verdana"/>
              </a:rPr>
              <a:t>Peopl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08560" indent="-399960">
              <a:lnSpc>
                <a:spcPct val="10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Verdana"/>
              </a:rPr>
              <a:t>Asian immigratio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08560" indent="-399960">
              <a:lnSpc>
                <a:spcPct val="10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Verdana"/>
              </a:rPr>
              <a:t>Slave trad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08560" indent="-399960">
              <a:lnSpc>
                <a:spcPct val="10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Verdana"/>
              </a:rPr>
              <a:t>Runaway slave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08560" indent="-399960">
              <a:lnSpc>
                <a:spcPct val="10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Verdana"/>
              </a:rPr>
              <a:t>Maroon societie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08560" indent="-399960">
              <a:lnSpc>
                <a:spcPct val="10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Verdana"/>
              </a:rPr>
              <a:t>Densely settled island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08560" indent="-399960">
              <a:lnSpc>
                <a:spcPct val="10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Verdana"/>
              </a:rPr>
              <a:t>Lightly populated main land territorie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08560" indent="-399960">
              <a:lnSpc>
                <a:spcPct val="10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Verdana"/>
              </a:rPr>
              <a:t>Rural urban continuum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08560" indent="-399960">
              <a:lnSpc>
                <a:spcPct val="10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Verdana"/>
              </a:rPr>
              <a:t>Migration chai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08560" indent="-399960">
              <a:lnSpc>
                <a:spcPct val="10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Verdana"/>
              </a:rPr>
              <a:t>Migration circular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08560" indent="-399960">
              <a:lnSpc>
                <a:spcPct val="10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Verdana"/>
              </a:rPr>
              <a:t>Labor-related migratio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08560" indent="-399960">
              <a:lnSpc>
                <a:spcPct val="10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Verdana"/>
              </a:rPr>
              <a:t>Tourism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08560" indent="-399960">
              <a:lnSpc>
                <a:spcPct val="10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Verdana"/>
              </a:rPr>
              <a:t>Diaspora Caribbea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veme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Verdana"/>
              </a:rPr>
              <a:t>Good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Verdana"/>
              </a:rPr>
              <a:t>Expor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Verdana"/>
              </a:rPr>
              <a:t>Railroad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Verdana"/>
              </a:rPr>
              <a:t>Port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veme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Verdana"/>
              </a:rPr>
              <a:t>Idea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Verdana"/>
              </a:rPr>
              <a:t>Languag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Verdana"/>
              </a:rPr>
              <a:t>Music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Verdana"/>
              </a:rPr>
              <a:t>Creolizatio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Verdana"/>
              </a:rPr>
              <a:t>Plantation Americ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Verdana"/>
              </a:rPr>
              <a:t>Asian immigratio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Verdana"/>
              </a:rPr>
              <a:t>Neo Afric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Verdana"/>
              </a:rPr>
              <a:t>Colonizatio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eg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Verdana"/>
              </a:rPr>
              <a:t>Physica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Verdana"/>
              </a:rPr>
              <a:t>25 countries and dependent territori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Verdana"/>
              </a:rPr>
              <a:t>Groups of islands (archipelago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Verdana"/>
              </a:rPr>
              <a:t>Tropical beaches – white sand beaches surround the islands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Verdana"/>
              </a:rPr>
              <a:t>Some islands are mostly made up of volcanoes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Verdana"/>
              </a:rPr>
              <a:t>Some countries contain limestone plateaus and mountains. Some were formed by ancient rocks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eg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Verdana"/>
              </a:rPr>
              <a:t>Politica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Verdana"/>
              </a:rPr>
              <a:t>A lot of small islands are claimed by other countries like England, Spain, and France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Verdana"/>
              </a:rPr>
              <a:t>Cuba is a communist country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Verdana"/>
              </a:rPr>
              <a:t>Puerto Rico is divided about their future politics – half Caribbean and half U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Verdana"/>
              </a:rPr>
              <a:t>Many countries and territories are free and independent, but many struggle to fit the citizen needs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5:48:22Z</dcterms:created>
  <dc:creator>NPSD</dc:creator>
  <dc:description/>
  <dc:language>en-US</dc:language>
  <cp:lastModifiedBy>NPSD</cp:lastModifiedBy>
  <dcterms:modified xsi:type="dcterms:W3CDTF">2009-12-18T15:53:45Z</dcterms:modified>
  <cp:revision>11</cp:revision>
  <dc:subject/>
  <dc:title>5 Themes of Geography</dc:title>
</cp:coreProperties>
</file>